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8.jpeg" ContentType="image/jpeg"/>
  <Override PartName="/ppt/media/image2.pct" ContentType="image/x-pict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B99A-33E7-47FE-9397-D2D29777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95E-8F61-408B-83D6-9885EEBF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CF3E-FACB-45B3-ABBF-230FC969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F6A9-A89F-40FF-896E-61C8A81C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F9E8-82AE-4BD8-9BE6-6EE84A42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B05-DCB1-438E-88C2-46E8C8FC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788-A395-4648-A7A8-59197331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6E7F-F7E6-4051-B26E-6F501FEB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7EE-871F-48CC-9779-EA19BB01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68B2-DD3A-4313-B38D-8A143D7C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E06-09B3-4BC1-8E3F-A528E3E1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2724-9553-476A-83B3-DD0A31AE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0395-77A3-4AE0-9CD6-28F637DC407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43B3-8B5B-4CC1-8100-23BA94AEA5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Wireless Communications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65480" y="2558880"/>
            <a:ext cx="114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Computer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MA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ldwide Interoperability for Microwave Access (WiMAX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oadband wireless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oadband wireless access (BWA) for fixed and mobile st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Computer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luetoo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ed to replace cable connecting computers, mobile phones, handheld devices, portable computers, fixed electronic dev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frequency-hopping spread-spectrum form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0-4: Bluetooth Output Power Clas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88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0-4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Bluetooth Output Power Class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3" descr="tab10_04.jpg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Computer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igBe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EEE 802.15.4 wireless stand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hysical and media-access control requirements of wireless devic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igBee is trade nam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Computer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io-Frequency Identification (RFI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radio waves to track and identify people, animals, objects, shipm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nciple of modulated backscatt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ns of powering the tag (passive, semiactive, active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of op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ions (air interface) protoco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lobal System for Mobile Communications (GS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DMA multiplexing but with wider-bandwidth channel; more users per chann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de-Division Multiple Access (CDM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-sequence spread spectru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Cellular Conce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 si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rangement of transmitter–receiver system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thin cell sites are base s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ceivers for communicating with mobile phone users, and transmitting and receiving anten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Cellular Conce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bile telephone switching office (MTSO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re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ing same carrier frequency in different, geographically separated cell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ll Split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ffic in cell increases beyond capacity; area split into number of cel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yleigh Fad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pid variation in signal strength received by mobile units in urban environm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llular Frequency B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CC assigns frequencies; personal communication systems (PCS) for mobile phone servi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Computer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reless Local-Area Networks (WLA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bility and cost-effectivenes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 transmission method (radio or infrared frequencies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lobal System for Mobile Communic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 used by carriers throughout Europ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SM uses Gaussian minimum-shift keying (GMSK) as modulation metho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“equalizing filter” to minimize effects of multipath propag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lobal System for Mobile Communic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 s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x types of control signals to mob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DMA-based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co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ess voice data for transmiss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de-Division Multiple Access (CDM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exing based not on time or frequency but on variant of spreading-code ide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e calls handled over same frequency range at same time and in same vicin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de-Division Multiple Access (CDM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lsh c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reading codes differentiate individual users within given are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nchronization among base stations maintained with GPS receivers at each base st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lot signal transmitted by each base st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de-Division Multiple Access (CDM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link path from subscriber unit to base st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exing process used for downlink cannot be directly used for uplink; answer is long co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de-Division Multiple Access (CDM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dependent on power control in pilot signal to allow correct handoff decisions to be made and in uplinks and downlink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ke receiv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ltiple correlator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oubleshooting/Interference Consider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SM open archite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formation about system available for all user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ized test equipment developed to assist with troubleshooting of CDMA network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ellular Phone Voice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oubleshooting/Interference Consider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ference can degrade performance of GSM and CDMA systems; identify physical location of interfere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0-6: A Partial List of Some Potential Interfering Signa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432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0-6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A Partial List of Some Potential Interfering Signal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5" descr="tab10_06.jpg"/>
          <p:cNvPicPr/>
          <p:nvPr/>
        </p:nvPicPr>
        <p:blipFill>
          <a:blip r:embed="rId1"/>
          <a:stretch/>
        </p:blipFill>
        <p:spPr>
          <a:xfrm>
            <a:off x="228600" y="2133720"/>
            <a:ext cx="8686800" cy="25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obile and Cellular Date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-Generation Systems (3G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loyment tied to market conditions and availability of spectru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0-7: Basic Characteristics of the Paths to 3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Computer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reless Local-Area Networks (WLA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C lay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 service reliability, access control to wireless medium, data priva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reless management protocols and services pertaining to authentication, association, data delivery, priva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66688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0-7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Basic Characteristics of the Paths to 3G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2" descr="tab10_07.jpg"/>
          <p:cNvPicPr/>
          <p:nvPr/>
        </p:nvPicPr>
        <p:blipFill>
          <a:blip r:embed="rId1"/>
          <a:stretch/>
        </p:blipFill>
        <p:spPr>
          <a:xfrm>
            <a:off x="228600" y="1089000"/>
            <a:ext cx="8686800" cy="463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obile and Cellular Date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-Generation Systems (3G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CD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versal Mobile Telecommunications Service (UMTS); based on direct-sequence spread spectrum (DSSS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obile and Cellular Date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-Generation Systems (4G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fully defined as y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obile and Cellular Date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reless Application Protocol (WA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ld standard to bridge gaps between mobile communications, Internet, corporate intranets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ress delivery problems with wireless data netwo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ndwidth, latency, connection stability, availabil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Securit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ve aspects to consider when securing a communication link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identiality (privac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repud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ility of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Securit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ttacks on a wireless networ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Securit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untermeasures use cryptography to protect transmitted data from eavesdroppin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Encryption Standard (DE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ipher text (encrypted messag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wo-Way and Trucked Radio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ulatory design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ized land-mobile radio (SMR); may be analog or digit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ers (transceivers) provide wide-area cover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wo-Way and Trucked Radio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ulatory design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-elevation repeater serving number of remote units dispersed over wide geographic are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unking systems rely on frequency-division multiple-access (FDMA) methods of multiple-user acces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oftware-Defined Radio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dio in which some subsystem functions carried out with software-based signal-processing routin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bsystems perform much closer to the ide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gnitive radios can “think;” they can take note of and adapt to their surround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Computer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reless Local-Area Networks (WLA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02.11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rst widely adopted standard for wireless networking; one of the most us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0-1: The DSSS Chann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66688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0-1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The DSSS Channel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9" descr="tab10_01.jpg"/>
          <p:cNvPicPr/>
          <p:nvPr/>
        </p:nvPicPr>
        <p:blipFill>
          <a:blip r:embed="rId1"/>
          <a:stretch/>
        </p:blipFill>
        <p:spPr>
          <a:xfrm>
            <a:off x="1655640" y="228600"/>
            <a:ext cx="588816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Computer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reless Local-Area Networks (WLA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02.11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luetooth networks, cordless telephones, WLANs, microwave ove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0-2: The IEEE 802.11a Channels and Operating Frequenc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688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10-2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The IEEE 802.11a Channels and Operating Frequenci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8" name="Picture 2" descr="tab10_02.jpg"/>
          <p:cNvPicPr/>
          <p:nvPr/>
        </p:nvPicPr>
        <p:blipFill>
          <a:blip r:embed="rId1"/>
          <a:stretch/>
        </p:blipFill>
        <p:spPr>
          <a:xfrm>
            <a:off x="1579680" y="228600"/>
            <a:ext cx="598464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Computer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reless Local-Area Networks (WLA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02.11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igrate to higher data rates without sacrificing network compatibil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02.11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west wireless standard; maintaining highest data rates under adverse condi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reless Computer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reless Local-Area Networks (WLAN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e-input multiple-output (MIMO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rier sense multiple access with collision avoidance (CSMA/C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29:55Z</dcterms:modified>
  <cp:revision>3</cp:revision>
  <dc:subject/>
  <dc:title>Slide 1</dc:title>
</cp:coreProperties>
</file>